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C371-AC34-49CE-9198-02D6B9010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63D9-097A-4E40-BBC3-195E0480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41B1-2812-4E29-B397-5C48328E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B588-3D74-4B51-A78B-0E0E8D39E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F7A1-BE20-4F79-90A6-369AB8D3D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2FFD-A5EA-41D3-A5F2-2E27FD5B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99B1-AD58-446B-BF61-4F1EA8ED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2B47-DB0F-4366-9795-EE01B459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C696-CE87-469F-9979-DC944401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F59A-1FEB-42BA-AB59-DF31E52F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560C-8968-4396-8F9C-88B9DB94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64B1-C657-4534-B735-0AB6A99A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36A6-2551-4B15-AB7B-530716B4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56E8-7B0A-4FAB-BB7C-BEF520FC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95C8-7B44-4C07-8FA5-6BA0B769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37B9-8905-46C8-AB7A-628817312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BD7F-9F81-4356-9079-3ABBFB0D0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D5FC-0182-4FA8-802A-81184C02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F786-3904-4187-A9A8-E83F41AE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96DC-3A04-4313-BC26-4B147A4F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AFA7-D8CE-4DEB-B77B-E1D4F811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F131-42F4-4CE3-BDC6-01424668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CB5F-36D7-4922-BB94-733E2C0C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DDEE-4BB4-497D-BC3C-003E8377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9E59-83D1-4896-9962-501BED06D52F}" type="slidenum">
              <a:rPr b="0" lang="ar-LB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FC49-3FD1-42E2-8318-4945DFE1D372}" type="slidenum">
              <a:rPr b="0" lang="ar-LB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32000" y="162864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 u="sng">
                <a:solidFill>
                  <a:srgbClr val="ffffff"/>
                </a:solidFill>
                <a:uFillTx/>
                <a:latin typeface="Times New Roman"/>
                <a:cs typeface="AF_Diwani"/>
              </a:rPr>
              <a:t>نشيد الختام:</a:t>
            </a:r>
            <a:br>
              <a:rPr sz="10600"/>
            </a:br>
            <a:br>
              <a:rPr sz="9600"/>
            </a:br>
            <a:r>
              <a:rPr b="0" lang="ar-SA" sz="6600" spc="-1" strike="noStrike">
                <a:solidFill>
                  <a:srgbClr val="ffffff"/>
                </a:solidFill>
                <a:latin typeface="Tahoma"/>
                <a:cs typeface="Ruqah2 Normal"/>
              </a:rPr>
              <a:t>هل يستطيع الرب بي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ل يستطيعُ الربُّ بي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 يصنعَ العجائبَ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إن طلبتُ تكريسي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ل يستجيبُ الطلبَ؟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380880"/>
            <a:ext cx="9144000" cy="79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عم نعم، نعم يقولُ ربُّنا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قدَّسوا للعملِ 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غداً سأعملُ بكم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وسْطِكم عجائبي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ل يستطيعُ الربُّ أن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قدّسَ ذا الجسدَ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ع ضعفِهِ وإثمِهِ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ه يحلُّ للمدى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380880"/>
            <a:ext cx="9144000" cy="79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عم نعم، نعم يقولُ ربُّنا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قدَّسوا للعملِ 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غداً سأعملُ بكم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وسْطِكُم عجائبي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ل يستطيعُ الربُّ أن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شغِّلَ مواهبي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قدِّساً عواطفي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مجدِ مَن أحبَّني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80880"/>
            <a:ext cx="9144000" cy="79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عم نعم، نعم يقولُ ربُّنا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قدَّسوا للعملِ 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غداً سأعملُ بكم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وسْطِكُم عجائبي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ل يستطيعُ الربُّ أن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باركَ في خدمَتي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كرِّساً لمجدِهِ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لّي له بجُملتي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380880"/>
            <a:ext cx="9144000" cy="79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عم نعم، نعم يقولُ ربُّنا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قدَّسوا للعملِ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غداً سأعملُ بكم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وسْطِكُم عجائبي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39:50Z</dcterms:created>
  <dc:creator>Charbel Azar</dc:creator>
  <dc:description/>
  <dc:language>en-US</dc:language>
  <cp:lastModifiedBy>Charbel Azar</cp:lastModifiedBy>
  <dcterms:modified xsi:type="dcterms:W3CDTF">2002-11-18T09:53:44Z</dcterms:modified>
  <cp:revision>3</cp:revision>
  <dc:subject/>
  <dc:title>PowerPoint Presentation</dc:title>
</cp:coreProperties>
</file>